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76E-8765-4B3D-83B7-29FBA558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0E4-CC09-4911-8020-A4D3B7ED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054-3E98-4452-9D50-2399BC4C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54E-E834-4CE8-8AB1-A964AE7F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BA2-1D30-4A0E-9A31-8E5102A2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9FAC-EDF9-4FEF-A3B4-E21E30AC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C61C-F88C-4EFD-B23D-0AE8A578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B991-A539-42B6-8501-E6ADC16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AF11-A0B7-47D5-B1C1-C752909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9E0D-A261-4E9F-9492-3BF76171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B94E-3696-4E2C-BFBC-416B11CE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BC3-FA1A-40E7-884B-E7813F7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275-59A6-47DD-A81B-397EA57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F77-232A-4DCE-9A1B-F631A5D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4E1A-AA0C-4276-A7F8-38D5714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08B5-2AD8-4AA4-BA93-41982B41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AD75-370D-4F57-B466-7CBE366E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F50-C31B-4B11-B96A-048F005A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5B5-607E-4973-BDCA-9EF21A4F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901-6661-47E3-BECC-8A3A0903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7D5-7544-466B-A0F2-164087C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146-609D-4F48-9774-06249B08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A61-B659-473F-AAC9-80F4F4FE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75C-B15C-4B04-B741-5F002C3C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80B-9ADA-42B2-B224-FC1945220DD3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7F44-8484-4D7E-85D1-D2228FE87CE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E-VIEWING ACTIVITI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280" y="3284640"/>
            <a:ext cx="6629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ho cho tr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nsegnante presenta i vocaboli tramite le flash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tion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ilk and biscuits, milk and bis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ese che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ggs and butter, eggs and bu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ese chee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Binka 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Verbi: eat, jump, run, smell, l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L’insegnante mima e dice, la classe imita in silenz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L’insegnante dice, la classe m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L’insegnante mima, la classe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reakfast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ole e ge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mbini divisi in 2 gruppi, disposti su 2 file, una di fronte all’al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otta e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ltima riga insi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reakfast time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reakfast time, breakfa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’m hungry, I’m hungry   (x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’s have che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uck! yu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’s have eg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uck! yuc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’s have but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ummy! yumm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’s have biscui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Yummy! yumm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t’s have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icio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Memory cha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like…/ I don’t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I bambini sono in cerch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 1: I like che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ud 2: I like chees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While- viewing activ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tive vie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After-viewing activi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hat’s in the frid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5:00:40Z</dcterms:created>
  <dc:creator>user</dc:creator>
  <dc:description/>
  <dc:language>en-US</dc:language>
  <cp:lastModifiedBy>user</cp:lastModifiedBy>
  <dcterms:modified xsi:type="dcterms:W3CDTF">2006-01-10T15:21:26Z</dcterms:modified>
  <cp:revision>3</cp:revision>
  <dc:subject/>
  <dc:title>PRE-VIEWING ACTIVITIES</dc:title>
</cp:coreProperties>
</file>